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8BC6-B3BE-4D06-86AC-90E7B2E8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CE55-26F0-48A9-81BB-17D9C878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4A6A-CB82-46B0-8AE2-E124CE27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CC0F-D311-4FA3-B765-3F89994D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7591-AF53-4283-939C-33749AE6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5FE-30E9-4524-BEA5-13FA849A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5543-326C-444C-835E-2CB65448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3097-9132-4926-ADD9-12A3DF0B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CDC0-72DA-4B91-98B0-6627A225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B8DC-1BA5-40AF-9FAD-36A2D034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964F-650E-4699-AC86-46A6FF71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87E8-E3B3-44CA-BA0D-54C9D01C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6DBE-6A7A-4BD2-A1DF-D5178518E6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6320" y="63360"/>
            <a:ext cx="772956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5333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flour hit the fo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50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 rot="10800000">
            <a:off x="609480" y="51051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729560" cy="5410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86728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roug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e f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729560" cy="5977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3520" y="594360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fox jumped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059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5714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under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the beeh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729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bees chased the fo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162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06320" y="304920"/>
            <a:ext cx="77295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335268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80920" y="0"/>
            <a:ext cx="826308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ro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y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06320" y="380880"/>
            <a:ext cx="772956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ke hit the fo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556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ake hit the fo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077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562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rou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3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19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fox fell 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29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5562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4" marL="1645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ve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he hayst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06320" y="0"/>
            <a:ext cx="7729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fox fell 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1714680"/>
            <a:ext cx="77295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st the mil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as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e mi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729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1:55:04Z</dcterms:created>
  <dc:creator>Paul Casson</dc:creator>
  <dc:description/>
  <dc:language>en-US</dc:language>
  <cp:lastModifiedBy>Cynthia</cp:lastModifiedBy>
  <dcterms:modified xsi:type="dcterms:W3CDTF">2010-09-05T20:35:21Z</dcterms:modified>
  <cp:revision>2</cp:revision>
  <dc:subject/>
  <dc:title>PowerPoint Presentation</dc:title>
</cp:coreProperties>
</file>